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27D2-827F-405D-8369-CFCFF1E20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38C8-AD98-4B1B-8974-980DA20C8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4ABE-49E1-4AEF-AE65-150AFDC66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EEF8-D2DE-476E-8A5C-951B5B7BA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8FCD0-43F4-4F07-9C60-CAFB1FA30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12448-D484-41CE-8F6D-E805792F6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ADDDB-7E91-478F-B452-5A6CC9DE1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F96CD-0EB0-442B-AE5A-8118B9F1C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BE3E3-8E1C-4E2C-8C4D-1D9AE9C37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0BDE1-39F6-4308-A218-AD9AE92D3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1D992-668E-442D-A8AE-7A069E9A8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3E71-B731-4ACC-B779-4766047AC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3B3D7-15A1-4CA0-913C-DB133625B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AF868-88AE-4487-82A5-E6CBEC929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719E0-F785-47EB-B8F8-FDC846673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73739-B6F6-4CE1-888F-3FA127F3B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CE7E7-94CF-4109-8CAC-6FE7102CB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309E-BC41-476B-876D-0E3C30F85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9966-5805-48A7-9792-F4E4C0778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55C6-DA86-47F5-9597-4DEC51DA6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7965-ABE0-48FB-B0FB-E6B2F2FF2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8DED-FBA2-4120-A9AA-FE4527D7E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FE98-273A-42FC-86AE-60B3A066C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1B22-6E47-4537-B977-0BE6FE092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B7240-0854-423B-B17C-769137B53D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69FB0-CB32-4AA1-992F-BF209F285C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Old English Text MT"/>
              </a:rPr>
              <a:t>Elizabethan Era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2362320" y="5257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Old English Text MT"/>
              </a:rPr>
              <a:t>Women in Shakespeare Cour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Old English Text MT"/>
              </a:rPr>
              <a:t>Othello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t between 1489 and 157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is a very BIG stretch of tim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aly (Several of Shakespeare’s play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incides with Elizabethan Er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Old English Text MT"/>
              </a:rPr>
              <a:t>Why Italy?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talian Rennascaince is the most prevelent and well known one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ars between Venice and Turke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thello is a Genera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Elizabeth Elizabeth!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419360" y="1371600"/>
            <a:ext cx="426708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izabeth 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izabethan Era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533-160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Renaiss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Great exploration ti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38005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Old English Text MT"/>
              </a:rPr>
              <a:t>Women!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Old English Text MT"/>
              </a:rPr>
              <a:t>Were considered inferior to m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Old English Text MT"/>
              </a:rPr>
              <a:t>Fathers looked after daughters until they became wives, and if they couldn’t be a wife a male relative would watch over the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Old English Text MT"/>
              </a:rPr>
              <a:t>Women were to be housewives and Mother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Old English Text MT"/>
              </a:rPr>
              <a:t>Were educated at this time, but no law, Medicine, or political job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Old English Text MT"/>
              </a:rPr>
              <a:t>Source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izabethan Women."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Queen Elizabeth I (1533-1603)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 Web. 04 May 2010. &lt;http://www.elizabethi.org/us/women/&gt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"Othello."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Free Study Guides for Shakespeare and Other Author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 Web. 04 May 2010. &lt;http://www.cummingsstudyguides.net/xOthello.html&gt;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"Queen Elizabeth I Timeline."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History Timelin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 Web. 04 May 2010. &lt;http://www.history-timelines.org.uk/people-timelines/06-queen-elizabeth-i-timeline.htm&gt;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6T10:33:24Z</dcterms:created>
  <dc:creator>KMM</dc:creator>
  <dc:description/>
  <dc:language>en-US</dc:language>
  <cp:lastModifiedBy>KMM</cp:lastModifiedBy>
  <dcterms:modified xsi:type="dcterms:W3CDTF">2010-05-06T12:08:06Z</dcterms:modified>
  <cp:revision>3</cp:revision>
  <dc:subject/>
  <dc:title>Slide 1</dc:title>
</cp:coreProperties>
</file>